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34B-AD5F-42C0-A81B-7C4EB943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DE9-C330-4831-A6EA-BA2357E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E5E-746A-4F45-A20E-E8ADB2EB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3F2-F557-4974-BE62-4B4BE215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ABA9-67E8-4271-AC09-CA837CF0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6C46-BD96-48D4-96AC-22159350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0F67-AA52-4C6E-9B5C-E6124362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9E55-8E8B-4525-9FB2-DD8F4763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D396-7384-4D70-BA66-4A5C6398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DF26-D9EF-4B8D-B60F-B758741F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FFEC-E08E-4F4F-B725-F15E9CC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4D2-D5B8-447F-B38A-6B47C8F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8A7A-E487-4A8A-A52A-6B596D8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7D96-E9FF-4FE4-A428-22F6D747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4E95-831A-479B-B371-EB09D6B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0151-769E-44B3-874C-071E03C8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8611-9DCA-4D2C-B1F0-D6DA9171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549-5929-4760-B48F-6CD6860A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167-8E0F-438F-8970-54F741B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427-959E-41CD-868B-B9123B27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0F6-5278-4D32-8A63-404145CA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CB7-B2C5-4625-A321-5D447B74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C40-B75D-4089-84CE-A6507BB4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213-E4B0-4954-966A-39A3B7A8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2986-3DE4-4669-8A41-6B05F6581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2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3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049-CAB8-4851-8C5A-209ADE4CD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Pan and Til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il_fi" descr="IC504692"/>
          <p:cNvPicPr/>
          <p:nvPr/>
        </p:nvPicPr>
        <p:blipFill>
          <a:blip r:embed="rId1"/>
          <a:stretch/>
        </p:blipFill>
        <p:spPr>
          <a:xfrm>
            <a:off x="914400" y="274320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rg_hi" descr="ANd9GcSw7moXtVCTmD-LLyq3aYuqf48OTpNu4LCzSBlwMg6Vvw_jniPvyw"/>
          <p:cNvPicPr/>
          <p:nvPr/>
        </p:nvPicPr>
        <p:blipFill>
          <a:blip r:embed="rId2"/>
          <a:stretch/>
        </p:blipFill>
        <p:spPr>
          <a:xfrm>
            <a:off x="4267080" y="2743200"/>
            <a:ext cx="4496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Dol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il_fi" descr="Dolly_site_500"/>
          <p:cNvPicPr/>
          <p:nvPr/>
        </p:nvPicPr>
        <p:blipFill>
          <a:blip r:embed="rId1"/>
          <a:stretch/>
        </p:blipFill>
        <p:spPr>
          <a:xfrm>
            <a:off x="1905120" y="2590920"/>
            <a:ext cx="4762440" cy="4060800"/>
          </a:xfrm>
          <a:prstGeom prst="rect">
            <a:avLst/>
          </a:prstGeom>
          <a:ln w="0">
            <a:noFill/>
          </a:ln>
        </p:spPr>
      </p:pic>
      <p:pic>
        <p:nvPicPr>
          <p:cNvPr id="99" name="il_fi" descr="P12303602285003368s"/>
          <p:cNvPicPr/>
          <p:nvPr/>
        </p:nvPicPr>
        <p:blipFill>
          <a:blip r:embed="rId2"/>
          <a:stretch/>
        </p:blipFill>
        <p:spPr>
          <a:xfrm>
            <a:off x="6705720" y="1143000"/>
            <a:ext cx="1904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Hand He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Held        Steadi-cam     Mono-p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il_fi" descr="camera_steady_1"/>
          <p:cNvPicPr/>
          <p:nvPr/>
        </p:nvPicPr>
        <p:blipFill>
          <a:blip r:embed="rId1"/>
          <a:stretch/>
        </p:blipFill>
        <p:spPr>
          <a:xfrm>
            <a:off x="762120" y="3048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rg_hi" descr="ANd9GcQglZoszWelWfkeN58DDBBf4yVosdpKnAyL9W7D6qjs0-rf1Kd7SQ"/>
          <p:cNvPicPr/>
          <p:nvPr/>
        </p:nvPicPr>
        <p:blipFill>
          <a:blip r:embed="rId2"/>
          <a:stretch/>
        </p:blipFill>
        <p:spPr>
          <a:xfrm>
            <a:off x="3581280" y="30481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104" name="il_fi" descr="alpenpod_small"/>
          <p:cNvPicPr/>
          <p:nvPr/>
        </p:nvPicPr>
        <p:blipFill>
          <a:blip r:embed="rId3"/>
          <a:stretch/>
        </p:blipFill>
        <p:spPr>
          <a:xfrm>
            <a:off x="5867280" y="3048120"/>
            <a:ext cx="1905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Crane, Ji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ne                        Jib (small crane)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il_fi" descr="wpid4374-20110119-Dolly-crane-shot"/>
          <p:cNvPicPr/>
          <p:nvPr/>
        </p:nvPicPr>
        <p:blipFill>
          <a:blip r:embed="rId1"/>
          <a:stretch/>
        </p:blipFill>
        <p:spPr>
          <a:xfrm>
            <a:off x="0" y="3124080"/>
            <a:ext cx="5181480" cy="3733920"/>
          </a:xfrm>
          <a:prstGeom prst="rect">
            <a:avLst/>
          </a:prstGeom>
          <a:ln w="0">
            <a:noFill/>
          </a:ln>
        </p:spPr>
      </p:pic>
      <p:pic>
        <p:nvPicPr>
          <p:cNvPr id="108" name="rg_hi" descr="ANd9GcTgbv1TpCl4eV_TMm82P_TntE-5KuVYznHqp0CWHS6VpyRauDAN2w"/>
          <p:cNvPicPr/>
          <p:nvPr/>
        </p:nvPicPr>
        <p:blipFill>
          <a:blip r:embed="rId2"/>
          <a:stretch/>
        </p:blipFill>
        <p:spPr>
          <a:xfrm>
            <a:off x="5638680" y="3352680"/>
            <a:ext cx="2471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Optical Zoom, Digital Zo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tical Zoom (real zoom)       Digital Z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ses different “zoom” lenses,   -Digital l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 example, a 100mm lens        magn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rg_hi" descr="ANd9GcS1cyN3lafU5kh6e80euvS-gViRSynZPHeIuM0dqAGKbuGlbn86"/>
          <p:cNvPicPr/>
          <p:nvPr/>
        </p:nvPicPr>
        <p:blipFill>
          <a:blip r:embed="rId1"/>
          <a:stretch/>
        </p:blipFill>
        <p:spPr>
          <a:xfrm>
            <a:off x="1600200" y="47242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il_fi" descr="1308834624-36"/>
          <p:cNvPicPr/>
          <p:nvPr/>
        </p:nvPicPr>
        <p:blipFill>
          <a:blip r:embed="rId2"/>
          <a:stretch/>
        </p:blipFill>
        <p:spPr>
          <a:xfrm>
            <a:off x="5676840" y="4657680"/>
            <a:ext cx="34671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ry, Camera, Ac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era Movement-Ae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Taken from a plane or helicopter, etc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il_fi" descr="HNV-aerial-shot-s"/>
          <p:cNvPicPr/>
          <p:nvPr/>
        </p:nvPicPr>
        <p:blipFill>
          <a:blip r:embed="rId1"/>
          <a:stretch/>
        </p:blipFill>
        <p:spPr>
          <a:xfrm>
            <a:off x="2362320" y="3276720"/>
            <a:ext cx="4263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ujou</dc:creator>
  <dc:description/>
  <dc:language>en-US</dc:language>
  <cp:lastModifiedBy>Jou Jou</cp:lastModifiedBy>
  <dcterms:modified xsi:type="dcterms:W3CDTF">2011-11-13T07:36:05Z</dcterms:modified>
  <cp:revision>91</cp:revision>
  <dc:subject/>
  <dc:title>Legacy Life Skills</dc:title>
</cp:coreProperties>
</file>